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4C5-CF66-4076-99DA-B4409B83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6AE-ACB0-467D-A013-D3CB2539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C5D-AC0C-4D26-8DD5-1470E518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A15-AE7B-4B1E-9E69-A8455039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110-031B-4CC7-B5E6-BAD7298B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B332-5F23-43A4-A447-A5DA28E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2EE-816F-4DC1-8CFA-22AAFA46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F4C4-C27D-4565-9179-2677F24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02DF-ECCC-4562-9957-671F9C8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F0DD-9BB5-4A19-8155-005929AD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5C6B-D3D5-41DA-827D-AB61FE5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6C-9F93-4781-B176-EC8E3FA5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DEB-8AEF-4839-BF46-60F0914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E4EF-B8C4-45CE-BE38-ABB5C1D8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8EF-835C-4D83-91A1-A03DEC83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6EA-3F38-4B2E-8AA0-77C56A8B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2393-ADC2-45BA-86FA-58E9FE4B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085-BC4B-45A9-AC1A-C6AFC55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B5E-BCD1-4E57-8DEC-892B0D4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80C-5F57-46FC-AC2B-AB5ECB41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028-231F-4380-BB24-8B292D3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798-B3EB-4CF4-80E1-AD64C0EF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37C-6509-4E73-8930-C6910CB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56E-8900-494B-B99A-18174B3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82E-4990-4664-95A5-63E98D69B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41E1-C36E-4EF2-A68D-15D86EE0B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Life of Christ  - Part 2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“Sir, We Would See Jesus”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15,16,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s.161-1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rom The Last Lesson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ate the Last Passover with His dis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oints out Judas as the bet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rns the disciples against dese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nstitutes the Memorial Supper for the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ave a farewell discourse in that upp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ang a hymn as they left the upp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uit-bearing depends on close attachment to Jesus – Jno.15:1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 is a priority – 9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of of real love – 13-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mises associated with love – 16-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ering and rejection should be expected – 15:18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: Witness of Jesus to Apostles 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stles will stand as witnesses to the world -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LICT that will come to them from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or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16:1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NSELOR (the Holy Spirit) that will come to them from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th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5-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 Purpo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ict sinners -8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emn Satan –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sel saints -12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mpion the Savior -14-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u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ut not seeing Him again -16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larif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His death and resurrection and the great joy to follow – 19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fo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ather’s love and provisions for them – 23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o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Jesus’ victory over all the darkness they would face – 29-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Jesus’ Prayer to the Fathe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Himself – 17:1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ry from God that He Can Give Back to the 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His disciples -6-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unity – 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them joy –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them – 15-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ctify them - 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Jesus’ Prayer to the Fathe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The Church -17:20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unity – 20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honor of the Son – 21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isplay of God’s love – 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perience of Christ’s glory in heaven forever –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relationship to God and Christ in His love -25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03:48Z</dcterms:created>
  <dc:creator>Terry W. Benton</dc:creator>
  <dc:description/>
  <dc:language>en-US</dc:language>
  <cp:lastModifiedBy>Terry W. Benton</cp:lastModifiedBy>
  <dcterms:modified xsi:type="dcterms:W3CDTF">2006-08-22T15:03:47Z</dcterms:modified>
  <cp:revision>3</cp:revision>
  <dc:subject/>
  <dc:title>Life of Christ  - Part 2 “Sir, We Would See Jesus”</dc:title>
</cp:coreProperties>
</file>